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5238-6B85-4D8D-AC12-62DEBFA0C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5196-0F28-4483-9FB9-CB8F49AE5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F76E-448C-4E86-8FF3-71695354E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466F-3C2B-476D-93A7-CA5849FFC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62C4-4562-4580-BBEF-0968ED6C0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E14D-9CE8-4BF8-9919-FBA3D45E1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66E5-CBAD-4E0A-AFAF-41EDC2DAA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BC7-FD2A-4C7E-91CB-08A834855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C3B-0A2E-4DC6-B615-D0D77BAC9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166F-2C86-4FFB-B6BA-AD915F5CF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AA5B-FC0E-4538-9A75-E7120B973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972-02CE-49E9-807D-D694AEC84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074-43CD-4726-AE00-E9219AC0D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398-35D4-45E0-9243-BC0C87CD3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DE1B-5B3D-4A16-87C8-01366CDDB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3BAB-0AA6-47C2-8E0B-DB5BF5154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D7D8-2B0B-4968-9A76-012886006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5AA-F502-4E7C-B5C9-AEF90640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0BE-FF4A-450E-9078-A3251BB7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BA0-0C97-4288-978A-79BB1FA3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D67-F41D-4F2F-AE49-D67B2925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244-5D19-4BEF-B3C8-D0ADA880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B4E-745A-4DC3-BFA7-1624C8D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C1E-D350-48FA-B39E-48782F87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B30-2221-4214-B642-14EFD32D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402-73BD-4452-B233-67348275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F06-DD81-4925-BD97-DF486DF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4A7-5284-4966-90C4-5F33F07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419E-BE67-4FBC-B0CF-3464412B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E7CD-5D4A-44BE-B970-0B7C32EE8E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troduction to Financial Intelligence Units and the Money Laundering Off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ession 1.1.4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ther FIU responsibi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pervision of Money Laundering regulations/com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Risk Assessment (FATF R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money launde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assically described as a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y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scribed by international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rsaw/Palermo/Vienna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TF Recommendati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: INTERNATIONAL STANDARDS (FINANCIAL ACTION TASK FOR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NANCIAL INVESTIGATIONS AND THE MONEY LAUNDERING OFF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ncial investigations (and criminal investigation) can lead to the identification of money laundering typologies for concealing the origin of money, and thus to the suspicion of a money laundering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 off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can allow the engagement of the Financial Intelligence Unit (FIU) and its powers can therefore be invok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picious Transaction Report (STR) analysis conducted by a Financial Intelligence Unit (FIU) can also lead to the investigation of (predicate) offence and related procee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uch conditions are met,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U can be engag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its powers can be invoked</a:t>
            </a:r>
            <a:r>
              <a:rPr b="0" lang="sl-SI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to bank data (STR) domestically and abroad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ytical capa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ly suspend the bank transaction domestically and abro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ney laundering and Financial Investig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999800"/>
            <a:ext cx="82296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national legislation and jurisprudence (including relevant judgments)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he necessary elements for the criminal offence of Money Launderi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practice, is the result of a Financial Investigation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ney Laundering charg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the Money Laundering charge be more efficient than charging for the predicate offenc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FIU data be used as evidence in criminal proceeding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US AND ONLINE CRIME PROC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contacted by e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ker represents as being from an existing partner/suppl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im tricked into making transfer to incorrect acc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se Study: Business Email Comprom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an FIU hel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ze transaction to prevent onwards transfer of funds (possibly recover stolen fund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co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raising through circulation of business email compromise red flags/indicators to obliged entities (financial institution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: Time is of the essenc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functions, responsibilities and powers of a Financial Intelligence Unit (FIU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derstand the types of information that an FIU has access t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 how FIUs exchange inform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e aware of the relevant international stand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lain the basic nature of the money laundering offen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escribe the relevance of money laundering to a financial investiga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vide an example of how FIUs can help with cases involving online crime procee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s and analyses suspected money laundering reports from the financial business that are regulated by AML (“obliged entities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models of FIUs, they are not a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Administ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9.5% Law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% Judicial/Hybr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access to other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 intel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dast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siness reg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nk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Po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emporarily freeze bank ac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stpone or suspend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uthority given to continue trans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dministrative sanctions (some F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your FI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om an overseas FIU – Egmont principles of information ex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mont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members foster the widest possible co-operation and exchange of information with other Egmont Group FIUs on the basis of reciprocity or mutual agreement and following the basic rules established in the Princip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ree exchange of information for purposes of analysis at FIU leve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 dissemination or use of the information for any other purpose without prior consent of the providing F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tection of the confidentiality of th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2624040" y="2276640"/>
            <a:ext cx="39178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U-FIU co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mont secure web (ES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U FIU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 FIUs host the CARIN/ARO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9:15:36Z</dcterms:modified>
  <cp:revision>349</cp:revision>
  <dc:subject/>
  <dc:title>PowerPoint Presentation</dc:title>
</cp:coreProperties>
</file>